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A5C5-5AEA-4A93-B290-B317575B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FEF3-58DF-42AB-87E7-9049ADC0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2219-D242-4D8E-907D-8A545925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BFF3-E9AB-4E03-B69F-E6A4726D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DCE6-83D3-4397-A097-C0AB6946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19AC-1F5D-4976-9C2E-006040C1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52E2-526B-4628-B9DD-1B17A683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492A-1099-4029-94F9-9B487AC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626F-C0DB-4344-B85F-49223228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82D7-466E-4F0A-A835-E600CAA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CB7E-B076-4A9D-A028-7BD6668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B98E-6C4B-43AC-9CE7-AF264381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5A71-B609-428E-9033-DE58CF8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C6BE-C1E8-4A02-BF5C-135FACFA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1FC9-8671-43A6-9E75-7EC603FE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AD18-F7EF-4315-B2BF-3E4C6FA7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C3D-5B23-4A0E-AB77-E9470B83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430D-C3B8-4334-BDDC-425D2AAA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B900-7E83-4216-9F0D-103CDE5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33C1-8FDB-4EF2-B96C-26C4EBA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29D3-05A2-4723-8C33-4F566237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834A-2F9A-42DC-AF96-0785DC00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94CC-B3D2-4B4F-B9B8-6199967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DC6F-21DB-4DBA-BCB5-CE706EED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3067-CC04-4512-A77A-83988366FA5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9153-F544-4A15-8495-CC8F89EF4DD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3089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й от близо и далеч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пуснете мрака веч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овото ви сочи пъ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по-светъл, райски къ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1127520"/>
            <a:ext cx="9325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ово Божие ти, всякога бъд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одител, и учител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 утеш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в път към вечния покой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65852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умът и мъдрост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едно са с светост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рез всички веков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зи то от грехов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1127520"/>
            <a:ext cx="9325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ово Божие ти, всякога бъд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одител, и учител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 утеш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в път към вечния покой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046520"/>
            <a:ext cx="9325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мрака тази светли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ди всяка тъмнин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чи на Божи пъ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стигнем в вечний къ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1127520"/>
            <a:ext cx="9325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ово Божие ти, всякога бъд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одител, и учител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 утеш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в път към вечния покой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181080" y="1046520"/>
            <a:ext cx="9325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и книга на живо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най-скъпоцен имо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наги показва н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тя към небесний хр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181080" y="1127520"/>
            <a:ext cx="9325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ово Божие ти, всякога бъд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одител, и учител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 утеш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в път към вечния покой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13:44Z</dcterms:modified>
  <cp:revision>13</cp:revision>
  <dc:subject/>
  <dc:title>Slide 1</dc:title>
</cp:coreProperties>
</file>